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6D8-7F9C-4009-AAE1-C26DC9BE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126-4687-4F78-A2B2-C052B237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65D4B-54B4-4CF4-9825-9FC6646B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ED6B4-C338-4882-9EB9-00C30BBB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0263E-AAE8-4BAA-87BA-AD3F2E1D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097EF-8427-4F91-A07E-F491E26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2F0A8-5B83-4369-A7C4-2AF8F92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6A158-1272-4118-984C-B1ED8108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1DD7C-0E64-4F06-8DB7-FCB4461D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7AA73-A677-4D54-86AB-871B40B2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E9D36-9C2B-42DB-BE40-03134C85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08FF2-2BDC-4CB8-A28D-C5F8D5AC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0D0-8A16-4435-9E40-45AECAE4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905EA-8618-43CD-8B89-F4B18872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035BC-8626-4E15-93FF-9F59C824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AAA5E-0114-454A-B57B-EC1D49C3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7D2DB-C622-43D9-A88B-A9ED0556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D6EAF-F584-42B1-8B0F-BB2E17B9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A9CA9-4A8C-427A-A7F8-A6F4723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51E41-B573-4E5F-8723-394E3D4B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73AC6-B435-46CF-A525-2CABC7AF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1C0A8-DE47-429D-9738-55B0ACD3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C2DCC-170C-4941-8F4A-55E816D2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09B-6416-48A2-B441-16AC12A5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FA7B8-AFC9-43A3-B614-B043DAF9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06AEA-E822-455D-B5B6-9ECD3F53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F2BA6-7EFD-450E-9AA1-6F7240AE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C79FF-5D71-4CF9-9EB0-6CF3166F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6D828-AD8A-4F2A-8343-CB86BECE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B7102-F887-4528-91D9-33FB2481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CE241-0ECA-402F-8F04-A94C90AF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F4F76-96D7-4D02-86F7-D3CD28BB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8F204-B444-41DC-A6F6-A040E61C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BE1EF-0FE7-4D71-8499-2C8692BF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03A5-443E-40B3-9D38-DBEBDB78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81BD6-8228-4678-BAEE-023C023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1B5BE-825D-43D1-A0D0-E2363B98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2D6E7-B2E5-4F13-9989-1EBC4573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56C7C-E95D-4A1D-97A6-06E210DB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D767D-4D92-46ED-8743-D87C086B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5739E-6F35-4364-9811-8EB3FB3A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B0295-C407-43A9-825B-94C4B587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496F2-573D-4C4B-89B4-E234DF57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BA806-CE1F-46F7-9608-DC3E3862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6A355-82EA-4D84-B33A-346F5810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0E29-02B1-4D7E-8423-66EF6974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C3473-A486-4EFF-8093-7B802DB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28071-4792-4AFF-91FC-3C1DA53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D98CF-02B7-4782-9796-37CD9DEA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240CC-1EB0-437C-A95D-7DBB09B9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3A720-3ED0-46E9-9AEC-779AF962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5F9FC-2839-4AB1-9827-F3B56AF2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C678A-3223-41C4-8AC6-45B2E172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3B8C7-AA50-4ACB-AEBE-84F6A436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A892A-7D33-44D6-99E3-79EA8D38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DCE3C-3556-4460-88B2-3FDBB16D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36D7-8F13-4545-8D3D-8B8CA811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3E711-7348-4120-B1E2-DB867A72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53048-5BF3-470E-B36D-50EE92EB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9C72D-4C2B-4001-B4D9-87268800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25282-1F22-430B-9AE9-10D96F32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AA092-D860-4B9F-AA1C-B008BA67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EA523-E48E-4D47-AC79-837C48C4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DA4B9-90A4-4229-B508-9953380E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EE951-1F51-4764-AD8D-FC112EFA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0B6F6-21D8-4390-A6EE-953FBB30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89B5B-E009-4C9D-8F17-6A8A0AAD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783D-BDC4-4A2B-B36B-51EFBCE6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546EF-CAB3-4A9F-93CD-AEDD1EA5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81C4C-2BBB-4B9C-ACC9-127C97F9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A813D5-D4D5-48BD-905D-09BA8A06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AF5BD-FC0A-4A04-9C44-7EFCEC0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466E7-94AC-49AC-89FB-30574FED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1FF26-3248-417D-9B6F-72DA1E12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DD4A3-2AA4-4E07-AF37-C989DFEA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19CA7-F1E1-4480-BA86-F9263F06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1AE32-7254-4EB0-B97B-C3F8E89C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8F9FB-9C1F-414A-897D-26A93CED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20B6-C402-4EA8-8A43-61CB41D9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C72DD-86BB-4911-978A-56714921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A9E43-95FC-465D-9667-EC7FCA16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C784A-126F-4C67-B4A7-BEA053ED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75545-7D4A-4A99-8EF7-CA061A29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F3F52-57A5-4191-A3AB-387E0D96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E2819-73EB-45BF-86EB-914E1A0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25B835-B5E9-404A-A43B-A54441D2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5C6FE-0251-405A-92BB-1501B191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230BD-E56D-4828-8F55-9EA5C149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2EB3B-D0D4-4569-AC41-1B1EBE0C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BB5E-73D5-43DF-8B2E-94AE4B0D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B54E2-FCEB-4DED-931D-F6829EDA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F6055-8722-4CE0-9D68-53A414D9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6CE7A-0BE9-4B6C-A2E4-A3D09A9F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9180F-5D0F-4388-82B7-53DC1B74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66CDF7-CE6B-4C15-8950-FD34C50B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2E47AF-3C99-494E-B303-2E16853A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4AABA-08B7-419E-AE6E-220E6796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27ABB3-B971-4913-A0D2-39CA7943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F26FB-0D73-4AAE-B2DC-EF8E3D51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DDA84-FD55-4BED-8CA3-875D5006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DD0D-6106-4162-83D3-1FD9EB90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A9BDD-290E-4D51-818B-EB994CD1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52B16-3A1B-4D83-959A-E72A6E9B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63F33F-E635-4A7F-8311-F0F7A9AA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19FBF-2B30-4A28-87CE-F779FF36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67E74A-3DEC-464D-848A-E4F2EFF4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BAE28-94D7-42E5-B13E-4021AFEB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D571D-BCB4-459B-B3B8-952DA09C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22AC3-1556-4BB7-80C1-D1E128CA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34FB8-0E06-4339-952D-A530DA3F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50396-7F8A-4742-9CD3-4B0F1E46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25A-5066-48A0-A454-74395CBD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6A39-7257-4E2E-88EA-34503EEC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C1CE3-29AA-487F-8E58-4AF40AC5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8645E-D4A3-4D93-B59E-150EA15D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AA8292-6064-4B06-B3C0-0CC9CD6F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CF8300-AFC8-409C-B86E-87CC6E6C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5AD32-721B-4235-9EC3-0AAEAF29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11F28-AD34-4EC1-8035-9ACD51E3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066EA-68BD-45ED-99DC-CAC889A2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3A07F-E663-4DE0-853B-7B0F9001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94CBD-5272-4DD6-9827-A9441823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EB21B-8A3D-4542-B55E-A6319C99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2D88-CCB2-459A-B1C5-61D864F3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2007E9-BE1A-48C5-BAB5-54306678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E8610-938F-4BCB-B108-E45FBC8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B5027-9457-46D1-A544-FEF74FAA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3CFFD-D562-44F5-8A3D-DE2DCED3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B7B72-BCB6-43B7-B55C-AABC7741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A5879-290C-4306-A310-8BB3B323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DADF67-518B-4C98-B0C1-7A67F5B0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53859B-F328-4DAF-88EE-4750A76A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62367B-59F0-4008-B74A-ACAA33AA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3E2866-1105-4354-8D2C-B58CC3B1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A30F-3621-4209-80C3-C8B943F4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82072-EAD4-44BA-981E-DB0F19B3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61017-F413-47D3-A88C-F6C49AAC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241AE-E36A-4961-B6B3-C9869D18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2E6906-6EBD-45EC-9504-8EB51F8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C5AE7B-C223-481E-B636-D2EAC614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C22DA-9908-4368-A848-26AEE6AB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C6EA65-266D-495B-9C10-636F2C05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3EA0BA-43A9-40DC-9A5A-830A2547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F748C1-9292-4C6D-AA75-A5BA26C6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2850A6-462B-49AD-9D8B-B2B37C96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2A34-5804-4501-8266-0A2C8417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B4CE88-444F-4393-9F32-1195FC25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001410-00A5-469A-AE6F-DF92E97C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70325-D333-46DB-8886-FF15B1BA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2D8B2-7042-48E3-8B4A-36814F5A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FACDD-C5CF-46C7-A495-92AD7585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BC8F1-4F02-49AB-80D6-D53145DF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2F268-B3C6-4B04-A545-743412A6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2923DE-373F-4662-8E44-9D9B0EDE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2421FC-7DFB-4AA5-9BDC-5D4046A3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A0F986-E94D-45A2-9A07-0543D146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C6B5-ED28-4250-8995-1AE2D046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56904C-63E2-4382-A64F-804C3415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B23BB-0D8E-4FA1-9E92-087CE7E4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005E2A-06C5-4297-8786-8470EBEB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8E2667-6E1E-4BEB-8BD8-22A412DF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26D7C-1F4F-4BB1-83A4-BEEC5A61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D8CD5-3A1A-43BC-A04D-A2E7A31C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C215E0-AE9B-44BF-8F2F-E1F16484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0E069-2D26-4899-B5D2-2FDCF79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9F81C-E463-47D4-89A6-2F93B411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B8E7C2-2E4B-4A20-9BCD-6C500F5F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256ED-8384-4A80-9A11-CCBA8CBF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82012A-CEA4-402B-9C74-F85BE26B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C1E623-056E-4263-8BFE-DD625555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E1CD0-3757-45AF-A076-6EC70B88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162D-E8A3-4B0E-89E4-CF2686C1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D705-9E38-4D1A-B763-4FA8DDA6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28B8-7BC7-45E7-8832-D22D5773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5997-7221-4C12-B194-A85173C2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DE2-B9D5-495C-BC5D-409C5E3D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1790B-277D-4A3F-A214-AAE6A397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4C82-0CF9-4E83-A03C-B45C1EA7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D042-0574-42C4-85CB-D1C1665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D0576-DF83-44F2-9751-E06C639A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241E-C08E-42A6-BE59-5BD38A35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453E-9879-4D52-88F3-F9AEAFA2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5DFB-806D-4500-A7AB-9A8F23DE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0E8C7-8907-4F93-9019-A1351698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7E28E-70CD-4B2A-9C71-C4EC0686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EF49-348B-46EF-B775-BFB2973D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ACA-8862-4DE6-8603-3BDA8A86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91553-8FD3-4442-8612-7D0F32AA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B977-EAA6-495C-95BA-976667C1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A6A5B-3446-4242-89D4-BF2CCC16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D2FB-F17A-4B5B-9996-761E1EFE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F534-3C5A-4554-9C99-3FE3367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0ED87-4E97-49C0-BA85-A3D219A4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E7A13-5E20-43BA-8A1B-63A245EA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B405-4846-4B85-989B-45ED7018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D466-D4AA-4F6B-8BE3-6FC3A246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CC4C-316A-4A57-9DF0-ABD83B10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8D6-A3BA-4334-8056-5B2373F7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17FE0-88B7-4820-8FC1-9858971B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CDA4E-D57E-47AC-98AC-B415F9C4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3868-C93B-412F-9D74-B99C89E3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716D3-0DE3-4610-991A-E982F67E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4487B-FA6F-4B1D-A3FD-A00113D1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AD35-6BE9-4763-BD7D-E122A996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AE768-041F-455A-9C9B-6EFFD2E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9C20C-3108-405C-B659-6EDB1241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2B71A-9F5C-4A6E-A061-676DE4D5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D698-28B8-4D9A-88FE-FD407812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EDB-79EF-462E-A303-60F294E5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3F8DD-A3F3-4E5B-BC13-E0271D42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D6F1F-71BF-46A3-A12F-13D5BE1C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B9ED1-4467-45AF-8C77-D5C3AE4F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89B09-D6AE-4CAC-A793-5E6F3D8C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E6D7A-7B78-40BB-95C8-EB536939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BE0C6-7CBC-4F6C-AE57-9BC927E6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085B2-21FC-4461-8690-CF3E5469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5C27A-F15D-4A66-A32C-BD416DA5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B7D84-4C36-4917-9368-1B553E12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A88E4-97B4-4769-B6F6-DE6A1FC0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4F6-9774-4D70-8DEC-8B4A9FE6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728E6-50CC-4FDF-A0B8-274B220A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6F10D-4B59-4C66-9EF5-7A3D5615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46625-3F26-4A6F-8388-A9DDD7D1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07978-52F2-49FC-A036-7425C084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8F20F-1298-4983-AA57-63C5CDE4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A7056-51B7-42C2-8164-0D1248C6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04B35-E56F-4FC1-BFFA-0666B18A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3135A-48AA-4E5C-AA61-DFF3F2C8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D385C-ACA0-4C3F-933A-D3FD9567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4CA8-B4B9-43E6-A1F0-122E56B5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771-C412-4313-B96B-A3A67CC8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E9E79-8C19-4154-BD22-07E7E07D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77AE0-B467-4773-BDE5-08255D6B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27B50-9FC6-48AA-919D-A2CB1A2F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B3D13-A91C-48E3-9B41-6BF4366C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6E545-84AF-4B17-A025-CD4BA3C0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7E3D2-78A6-4DE0-A1F6-BF908624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24F4C-7736-46AF-ACF4-4D149CFA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62782-A93C-49DA-999F-51CB3109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B5B37-2384-4CF4-9C0E-0575EFCB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6ADCC-BFDA-4492-9888-C791638E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C0C-7E79-4D0F-AC50-7114CB2C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7A325-8FAD-4EC7-AE5E-47AE7345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39B60-BA91-4C2E-B5D4-30D63732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BC50B-C69A-48EB-8B92-E1DA6B7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C4C60-498A-42B5-A9C1-805F2EA1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A5B9D-8433-4F8F-812B-74DA7E1D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9A9B7-5CDD-4789-AF87-BE2C7547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C29A1-0BC8-4594-87F4-3B652975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CD9DB-83E8-4882-BCEC-66E108AC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465D2-48DF-432E-91E7-55DB0F7F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CB84F-1C7B-480F-8D9B-FC28F6BC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94EB-03B6-4427-A6E1-1D8EA54A5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ACB5-CBA4-40C1-ADAA-41743F89CE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F4DC-D127-459F-9FA4-69B93D3ECF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3060-4538-4F33-A022-99FE161A72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23A2-D8B6-4C90-ACB0-2DF8DEDEAA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6523-440B-4E2A-9035-305EE40B3E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D6B4-55C2-4CE3-8389-BC7AC4CFDD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F897-7351-470B-BAE4-60008C3AAA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B349-4F4C-4945-91A6-3655359C54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3851-29D3-4BFC-9922-9328363B0C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CD6E-142C-47B4-A6E7-4FE355907F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3B9C-E975-492E-B278-217BCDFBC9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0781-D6C6-442A-9F1B-AB832FAECC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7697-7561-44C3-B074-C6A048CB50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A4DE-2882-470C-BC11-911280AB83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F08A-80D2-4FBA-8397-A810050775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AEE8-2D25-4CAD-8EFE-D0BD8D79D2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8D48-7156-4495-B55F-E8A8C1D61E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BD96-E52B-4F34-B9CA-8EA1962C1F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43F2-5203-4591-A2B4-A83E813F31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B1B6-0302-4A6E-8F2B-0236144658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78E1-D844-4FC0-8F89-16B786C551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653D-55DD-4884-8376-8E301AC52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ECBC-4B58-49E6-B33F-4C052001AB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F424-55F0-442A-B285-B698607736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A1B8-B957-48D9-B05F-C949E67BE6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E8A3-A503-4AB5-8618-4B26B1DADB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4918-7682-4049-984F-9D1030550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E52A-3F42-4089-9FBC-0F8BA095C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EAAC-19F2-46AC-86EB-866CD2265A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9072-B5C0-4C4B-8C02-90D9FD01A7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F90C-7344-4C5E-9A6D-8BC8918714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4131-C583-41B0-AD77-5A409FA9E1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4ECB-2A5C-4746-B8D9-DA1A82EAE3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FC61-E747-4C53-BB21-82DF66E66B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682E-ED07-414C-A32A-4EEEBB3C24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7A85-D163-419F-8EFC-E9897F19C1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A355-6A4C-4ED3-A3A0-D1BCE88BE0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38C6-C27D-4E4A-85DB-16620537EA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EF1E-12A5-4FD8-B6AD-DCD81A9FE4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162080" y="3095640"/>
            <a:ext cx="6819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77120" cy="567684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2428920"/>
            <a:ext cx="42876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1000080" y="3714840"/>
            <a:ext cx="428760" cy="42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391600" cy="614376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1000080" y="714240"/>
            <a:ext cx="42876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3286080"/>
            <a:ext cx="4284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928800" y="5072040"/>
            <a:ext cx="42840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258040" cy="10288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" descr=""/>
          <p:cNvPicPr/>
          <p:nvPr/>
        </p:nvPicPr>
        <p:blipFill>
          <a:blip r:embed="rId2"/>
          <a:stretch/>
        </p:blipFill>
        <p:spPr>
          <a:xfrm>
            <a:off x="357120" y="2214720"/>
            <a:ext cx="8134560" cy="3666960"/>
          </a:xfrm>
          <a:prstGeom prst="rect">
            <a:avLst/>
          </a:prstGeom>
          <a:ln w="0">
            <a:noFill/>
          </a:ln>
        </p:spPr>
      </p:pic>
      <p:sp>
        <p:nvSpPr>
          <p:cNvPr id="1032" name="矩形 3"/>
          <p:cNvSpPr/>
          <p:nvPr/>
        </p:nvSpPr>
        <p:spPr>
          <a:xfrm>
            <a:off x="2857680" y="1643040"/>
            <a:ext cx="135720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857160" y="3143160"/>
            <a:ext cx="200052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3429000" y="3629160"/>
            <a:ext cx="135720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839880" y="4954680"/>
            <a:ext cx="114300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5143680" y="5394240"/>
            <a:ext cx="13572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86840" cy="614376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1857240" y="1500120"/>
            <a:ext cx="100044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3357720" y="1500120"/>
            <a:ext cx="85716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4786200" y="1500120"/>
            <a:ext cx="135756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6572160" y="1500120"/>
            <a:ext cx="171468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5372280" y="2808360"/>
            <a:ext cx="135720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7"/>
          <p:cNvSpPr/>
          <p:nvPr/>
        </p:nvSpPr>
        <p:spPr>
          <a:xfrm>
            <a:off x="7000920" y="2786040"/>
            <a:ext cx="1071360" cy="4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"/>
          <p:cNvSpPr/>
          <p:nvPr/>
        </p:nvSpPr>
        <p:spPr>
          <a:xfrm>
            <a:off x="1571760" y="3786120"/>
            <a:ext cx="107136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9"/>
          <p:cNvSpPr/>
          <p:nvPr/>
        </p:nvSpPr>
        <p:spPr>
          <a:xfrm>
            <a:off x="2857680" y="3786120"/>
            <a:ext cx="121428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10"/>
          <p:cNvSpPr/>
          <p:nvPr/>
        </p:nvSpPr>
        <p:spPr>
          <a:xfrm>
            <a:off x="4429080" y="3786120"/>
            <a:ext cx="10717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1"/>
          <p:cNvSpPr/>
          <p:nvPr/>
        </p:nvSpPr>
        <p:spPr>
          <a:xfrm>
            <a:off x="5572080" y="3786120"/>
            <a:ext cx="10717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2"/>
          <p:cNvSpPr/>
          <p:nvPr/>
        </p:nvSpPr>
        <p:spPr>
          <a:xfrm>
            <a:off x="1214280" y="4214880"/>
            <a:ext cx="2714760" cy="33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3"/>
          <p:cNvSpPr/>
          <p:nvPr/>
        </p:nvSpPr>
        <p:spPr>
          <a:xfrm>
            <a:off x="2786040" y="5072040"/>
            <a:ext cx="121464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4"/>
          <p:cNvSpPr/>
          <p:nvPr/>
        </p:nvSpPr>
        <p:spPr>
          <a:xfrm>
            <a:off x="4454640" y="5089680"/>
            <a:ext cx="1071360" cy="33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15"/>
          <p:cNvSpPr/>
          <p:nvPr/>
        </p:nvSpPr>
        <p:spPr>
          <a:xfrm>
            <a:off x="7304040" y="5964120"/>
            <a:ext cx="107172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6"/>
          <p:cNvSpPr/>
          <p:nvPr/>
        </p:nvSpPr>
        <p:spPr>
          <a:xfrm>
            <a:off x="1025640" y="6415200"/>
            <a:ext cx="1071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7"/>
          <p:cNvSpPr/>
          <p:nvPr/>
        </p:nvSpPr>
        <p:spPr>
          <a:xfrm>
            <a:off x="2739960" y="6404040"/>
            <a:ext cx="126072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457200" y="876240"/>
            <a:ext cx="8229600" cy="510552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6215040" y="2928960"/>
            <a:ext cx="42876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5072040" y="4714920"/>
            <a:ext cx="42876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457200" y="1390680"/>
            <a:ext cx="8229600" cy="407664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"/>
          <p:cNvSpPr/>
          <p:nvPr/>
        </p:nvSpPr>
        <p:spPr>
          <a:xfrm>
            <a:off x="2214720" y="1428840"/>
            <a:ext cx="428400" cy="33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2286000" y="3214800"/>
            <a:ext cx="428760" cy="33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542880" y="2000160"/>
            <a:ext cx="8058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7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